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560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560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F8EF-1C5C-4B82-89AD-AEB1041F4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77BB-8748-4B44-95A6-1BF6197A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B0E1-0F7C-4146-805F-8545343F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2657-5746-41ED-989F-DA82C2FB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7A47-2880-4EC7-9D46-605D1903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6E376-FEFF-44ED-A491-9C51F01E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6B374-3991-493B-AC56-BD160B5D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783D9-C469-433A-B0FB-64DB1157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7FC3-AD6D-4AE3-A4DC-A273493B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C1E5E-9A19-4774-93D7-B492437B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4330D-FA21-4797-A278-CE001F6B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D0B71-B2AA-473E-AC7E-E3CF0553B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F9D3-1946-49E2-9DB8-DAD7F89F1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A417-3035-4387-86C7-57C67578C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82C7-7C62-4C79-8FCE-E61E3089A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BD33-89ED-4D9A-87E0-5524A3B56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1107-E6B9-4863-871C-98D0F65F6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92D3-DF67-4B30-8437-9F9782D69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343C-1C65-4329-A608-C85AF5EEB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5A70-8B30-4BA3-9D6A-5E3216721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07FA-E8EF-44ED-A947-C1EEE951D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4559-BD2F-441D-B236-16C5BD992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6B7C-7DAD-4DA4-9F64-195289FC2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BAB8-5E65-410C-BDBD-93E3331AF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A3ED43D0-845D-47D8-B450-66DD49CDE8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B3A8E9E-4C75-425D-AAB6-BA72C99F4B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Peter.klaver@egem.n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liancy StUF standa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egroep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laver, EGEM i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5-11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ternatieve oplossingsrichtin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 marktconsult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gebruik zijnde en (niet?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werkende koppel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entariseren 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ublic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der businessmo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keuringsinstituut / geen compliancy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de integratie afspraken / overeenkom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/openbaar maken va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afhankelijke (veld) inspec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st/keuringssoftware i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ntwikk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B7D14F37-8F59-44BF-B7CD-458F89C436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tra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4232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ktconsultatie kandidaat – keuringsinstitu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, condities en randvoorw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CT-leveranci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rings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OM/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BO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besteding en sel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rming van inkoop/selectieteam en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FI – 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ctering /  inkoop keuringsinstitu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lisatie, test en accept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11280" y="5300640"/>
            <a:ext cx="460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222160" y="5084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39640" y="4294080"/>
            <a:ext cx="460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150880" y="4149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843600" y="2060640"/>
            <a:ext cx="33480" cy="201600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7419960" y="4221000"/>
            <a:ext cx="1440" cy="20876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10920" y="2565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280" y="4724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7419960" y="3284280"/>
            <a:ext cx="31680" cy="936360"/>
          </a:xfrm>
          <a:prstGeom prst="line">
            <a:avLst/>
          </a:prstGeom>
          <a:ln w="7632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dianummer 1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4EBA0B05-8A6C-40A6-B487-6FBB141594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6360" cy="3368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572000" y="4800600"/>
            <a:ext cx="388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eter.klaver@egem.n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l. 06 3634 13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34E6C59B-5766-469D-89EB-B4A62A2483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UF keurme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ikwijdte en toetsings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siness en organisatie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aan Keuringsinstitu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automatiseerde compliancy 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 van zaken en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CA2D6B93-A81E-4B5E-8F04-D30D2061F7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334200" y="1700280"/>
            <a:ext cx="280980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 een StUF keurme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6697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gemeenten en ove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betering interoperabiliteit in de prakt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koppelproblemen tussen software van verschillende leveranc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gere integratierisi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ten krijgen meer grip op kwaliteit van de standaarden en op de (juiste) implementatie ervan i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schappelijke en onafhankelijke testvoorzi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ICT 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testkosten (n * m testen naar n * 1 ) en (externe) onafhankelijke testhulpmiddelen/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urmerk is “kwaliteitsstempel” en een marketing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ssend in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vulling van pijler ICT – certificering op (juist) gebruik van standaarden “StUF-keurmerk” op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m organiseren, uitbesteden, samenwer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7380360" y="1062000"/>
            <a:ext cx="133344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BBB6678-B7F3-49A7-8613-01D611E0BA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045800"/>
            <a:ext cx="79423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compliancy –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ftware die voldoet aan de toetsingscriteria en proces krijgt een StUF keurme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91640" y="184464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163512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468360" y="2708280"/>
            <a:ext cx="1655640" cy="2305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09800" y="2781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Progr.van Ei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340000" y="2708280"/>
            <a:ext cx="504720" cy="2952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920320" y="2133720"/>
            <a:ext cx="5077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aag en opzet op hoofdlij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gitimatie, doe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model ( taakverdeling en financie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case voor keuring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st en keuringskader StUF Keurme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ikwijd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pro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ctieve keuringscrite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sen aan ict leverancier en te keuren 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isen aa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liancy voorzi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la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CB1260AD-F4A4-4DEB-8480-278D7CAD3F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ikwijdte Toetsingskader “StUF keurme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5435640" cy="354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152360" cy="110484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16200000">
            <a:off x="3294720" y="3121200"/>
            <a:ext cx="1079640" cy="5414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00720" y="2060640"/>
            <a:ext cx="2952720" cy="2879640"/>
          </a:xfrm>
          <a:prstGeom prst="ellipse">
            <a:avLst/>
          </a:prstGeom>
          <a:solidFill>
            <a:srgbClr val="d1c1d1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789440" y="2637000"/>
            <a:ext cx="2374920" cy="16826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3852720" y="2274840"/>
            <a:ext cx="1368720" cy="6508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52720" y="3932280"/>
            <a:ext cx="1152720" cy="6490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088960" y="5084640"/>
            <a:ext cx="3762000" cy="925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Het StUF keurmerk is GEEN garant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at een koppeling/service cor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erkt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73FCD69D-9540-4FC3-94E3-5CEB11A568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108540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werkingsgebied van de StUF standaard is breder dan alleen gemeen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96872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364000" y="2133720"/>
            <a:ext cx="3490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 gemeentelijke ke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aakgegevens van/naar burgers/bedrij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ketens waar geen XML-standaard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F8584A34-A9DA-49BA-9097-EB65508642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- taakver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Oval 3"/>
          <p:cNvSpPr/>
          <p:nvPr/>
        </p:nvSpPr>
        <p:spPr>
          <a:xfrm>
            <a:off x="1116000" y="5373720"/>
            <a:ext cx="1511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Egem +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aarderingskamer +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LV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BA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KPB, …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924360" y="5157720"/>
            <a:ext cx="1152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 org. K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22920" y="1928880"/>
            <a:ext cx="296064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uringsdienst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en keur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&amp;O compliancyvoorzi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. inspec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apportage, admi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eerdere abonn.vorm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t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stdiensten, adv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ankelij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paran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wezen experti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keten)integra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XML/SOAP, e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n/toet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tenstandaard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79640" y="1916280"/>
            <a:ext cx="31687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219640" y="2268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788000" y="4248000"/>
            <a:ext cx="43164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60480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3FC9BBA1-6D29-44EF-B642-F92E36B960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 - financieel (voorst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estering + exploitatiekosten verdisconteerd in opbrengsten van keur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keuringen &gt; 150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CT leveranciers betalen de ke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ringsinstituut kan extra opbrengsten gener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garanti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, Waarderingskamer, LVO en .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oor dekking investering/ opstartkosten van keuringinstituut bij onvoldoende opbrengs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I 3 jaar, tegen kostpr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835280" y="3645000"/>
            <a:ext cx="6490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835280" y="350028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700360" y="4221000"/>
            <a:ext cx="576360" cy="43344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605160" cy="58896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763640" y="234936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ur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BB573EF-01DF-44B9-84E0-199A23138A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isen aan compliancy voorzi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5473440" cy="334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40000" y="2560680"/>
            <a:ext cx="273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Ei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uncti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ik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 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>Peter Klaver</dc:creator>
  <dc:description/>
  <dc:language>en-US</dc:language>
  <cp:lastModifiedBy>Peter</cp:lastModifiedBy>
  <dcterms:modified xsi:type="dcterms:W3CDTF">2009-11-26T06:35:42Z</dcterms:modified>
  <cp:revision>42</cp:revision>
  <dc:subject>Versterking StUF in 2009</dc:subject>
  <dc:title>StUF compliancy </dc:title>
</cp:coreProperties>
</file>